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F4DF-684A-4B7D-9909-310B60D7106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1540-6526-4E62-8D11-A1389E62E0D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82C-24DB-481F-8318-1A541B5B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02D-9649-46D6-98AE-B895F198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B91-F61F-400B-8F96-35BDCC74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81C-C193-4E25-84E6-711A718C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C99B-5A6A-4696-BDEF-B58EE2CD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A30A-7A21-4C4B-B201-FB96A34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5153-F46B-43A8-93F6-AB9C8B4D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B304-5953-47A6-A5AD-099B115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88C5-188E-426D-ACEB-814A948E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7D22-2A2E-4441-B679-3C420928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8A54-6A08-4619-8E96-2D5DB02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957-B8FF-409E-A428-797F56A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7711-24E3-4C00-8DFE-C4F31E9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29F6-8E6A-4CBB-B232-84903DC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5A5-5695-4222-AF59-0AFD29CF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059C-FBF0-4A47-A3C6-C4C37658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D40D-AEB5-44B8-B21E-7E586648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AE4-CFD1-49E0-B56E-2347AAFD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C55-BADC-4CD5-B69A-C0FA1AF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F48-2E2E-42D3-8099-55398F01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AB8-058A-47BD-9111-1B9D39EC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6D2-6B0C-45B6-933A-784F7B9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F52-C650-40CF-8365-C52B5E0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559-7A3E-4BE0-900B-95EE8FC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092-A710-41D4-961B-12610977EE4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440"/>
              <a:chOff x="5408640" y="62280"/>
              <a:chExt cx="362160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26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7680"/>
                <a:ext cx="90684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9120"/>
                <a:ext cx="4399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64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8880"/>
                <a:ext cx="163440" cy="3308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6160"/>
                <a:ext cx="523800" cy="32623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ED64-7C31-438B-8B3D-EBBEFB2F2F0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4.xml"/><Relationship Id="rId17" Type="http://schemas.openxmlformats.org/officeDocument/2006/relationships/slide" Target="slide3.xml"/><Relationship Id="rId18" Type="http://schemas.openxmlformats.org/officeDocument/2006/relationships/slide" Target="slide18.xml"/><Relationship Id="rId19" Type="http://schemas.openxmlformats.org/officeDocument/2006/relationships/slide" Target="slide2.xml"/><Relationship Id="rId20" Type="http://schemas.openxmlformats.org/officeDocument/2006/relationships/slide" Target="slide1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1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"/>
          <p:cNvSpPr/>
          <p:nvPr/>
        </p:nvSpPr>
        <p:spPr>
          <a:xfrm>
            <a:off x="179280" y="5661000"/>
            <a:ext cx="2519640" cy="93492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58199" h="21600">
                <a:moveTo>
                  <a:pt x="0" y="0"/>
                </a:moveTo>
                <a:lnTo>
                  <a:pt x="58199" y="0"/>
                </a:lnTo>
                <a:lnTo>
                  <a:pt x="58199" y="21600"/>
                </a:lnTo>
                <a:lnTo>
                  <a:pt x="0" y="21600"/>
                </a:lnTo>
                <a:close/>
              </a:path>
              <a:path fill="lightenLess" w="58199" h="21600">
                <a:moveTo>
                  <a:pt x="0" y="0"/>
                </a:moveTo>
                <a:lnTo>
                  <a:pt x="58199" y="0"/>
                </a:lnTo>
                <a:lnTo>
                  <a:pt x="56799" y="1400"/>
                </a:lnTo>
                <a:lnTo>
                  <a:pt x="1400" y="1400"/>
                </a:lnTo>
                <a:close/>
              </a:path>
              <a:path fill="darken" w="58199" h="21600">
                <a:moveTo>
                  <a:pt x="58199" y="0"/>
                </a:moveTo>
                <a:lnTo>
                  <a:pt x="58199" y="21600"/>
                </a:lnTo>
                <a:lnTo>
                  <a:pt x="56799" y="20200"/>
                </a:lnTo>
                <a:lnTo>
                  <a:pt x="56799" y="1400"/>
                </a:lnTo>
                <a:close/>
              </a:path>
              <a:path fill="darkenLess" w="58199" h="21600">
                <a:moveTo>
                  <a:pt x="58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99" y="20200"/>
                </a:lnTo>
                <a:close/>
              </a:path>
              <a:path fill="lighten" w="58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доровое питание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79280" y="4437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редные привычки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79280" y="3213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порт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291636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22"/>
          <p:cNvSpPr/>
          <p:nvPr/>
        </p:nvSpPr>
        <p:spPr>
          <a:xfrm>
            <a:off x="421164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50548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79280" y="1989000"/>
            <a:ext cx="2521080" cy="935280"/>
          </a:xfrm>
          <a:custGeom>
            <a:avLst/>
            <a:gdLst>
              <a:gd name="textAreaLeft" fmla="*/ 60480 w 2521080"/>
              <a:gd name="textAreaRight" fmla="*/ 2460600 w 252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209" h="21600">
                <a:moveTo>
                  <a:pt x="0" y="0"/>
                </a:moveTo>
                <a:lnTo>
                  <a:pt x="58209" y="0"/>
                </a:lnTo>
                <a:lnTo>
                  <a:pt x="58209" y="21600"/>
                </a:lnTo>
                <a:lnTo>
                  <a:pt x="0" y="21600"/>
                </a:lnTo>
                <a:close/>
              </a:path>
              <a:path fill="lightenLess" w="58209" h="21600">
                <a:moveTo>
                  <a:pt x="0" y="0"/>
                </a:moveTo>
                <a:lnTo>
                  <a:pt x="58209" y="0"/>
                </a:lnTo>
                <a:lnTo>
                  <a:pt x="56810" y="1400"/>
                </a:lnTo>
                <a:lnTo>
                  <a:pt x="1400" y="1400"/>
                </a:lnTo>
                <a:close/>
              </a:path>
              <a:path fill="darken" w="58209" h="21600">
                <a:moveTo>
                  <a:pt x="58209" y="0"/>
                </a:moveTo>
                <a:lnTo>
                  <a:pt x="58209" y="21600"/>
                </a:lnTo>
                <a:lnTo>
                  <a:pt x="56810" y="20200"/>
                </a:lnTo>
                <a:lnTo>
                  <a:pt x="56810" y="1400"/>
                </a:lnTo>
                <a:close/>
              </a:path>
              <a:path fill="darkenLess" w="58209" h="21600">
                <a:moveTo>
                  <a:pt x="58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10" y="20200"/>
                </a:lnTo>
                <a:close/>
              </a:path>
              <a:path fill="lighten" w="58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ервая помощь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6800760" y="458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024760" y="4581360"/>
            <a:ext cx="1006560" cy="719280"/>
          </a:xfrm>
          <a:custGeom>
            <a:avLst/>
            <a:gdLst>
              <a:gd name="textAreaLeft" fmla="*/ 46440 w 1006560"/>
              <a:gd name="textAreaRight" fmla="*/ 960120 w 1006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23" h="21600">
                <a:moveTo>
                  <a:pt x="0" y="0"/>
                </a:moveTo>
                <a:lnTo>
                  <a:pt x="30223" y="0"/>
                </a:lnTo>
                <a:lnTo>
                  <a:pt x="30223" y="21600"/>
                </a:lnTo>
                <a:lnTo>
                  <a:pt x="0" y="21600"/>
                </a:lnTo>
                <a:close/>
              </a:path>
              <a:path fill="lightenLess" w="30223" h="21600">
                <a:moveTo>
                  <a:pt x="0" y="0"/>
                </a:moveTo>
                <a:lnTo>
                  <a:pt x="30223" y="0"/>
                </a:lnTo>
                <a:lnTo>
                  <a:pt x="28823" y="1400"/>
                </a:lnTo>
                <a:lnTo>
                  <a:pt x="1400" y="1400"/>
                </a:lnTo>
                <a:close/>
              </a:path>
              <a:path fill="darken" w="30223" h="21600">
                <a:moveTo>
                  <a:pt x="30223" y="0"/>
                </a:moveTo>
                <a:lnTo>
                  <a:pt x="30223" y="21600"/>
                </a:lnTo>
                <a:lnTo>
                  <a:pt x="28823" y="20200"/>
                </a:lnTo>
                <a:lnTo>
                  <a:pt x="28823" y="1400"/>
                </a:lnTo>
                <a:close/>
              </a:path>
              <a:path fill="darkenLess" w="30223" h="21600">
                <a:moveTo>
                  <a:pt x="30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3" y="20200"/>
                </a:lnTo>
                <a:close/>
              </a:path>
              <a:path fill="lighten" w="30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31"/>
          <p:cNvSpPr/>
          <p:nvPr/>
        </p:nvSpPr>
        <p:spPr>
          <a:xfrm>
            <a:off x="179280" y="765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доровье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291636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6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33"/>
          <p:cNvSpPr/>
          <p:nvPr/>
        </p:nvSpPr>
        <p:spPr>
          <a:xfrm>
            <a:off x="421164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7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34"/>
          <p:cNvSpPr/>
          <p:nvPr/>
        </p:nvSpPr>
        <p:spPr>
          <a:xfrm>
            <a:off x="550548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8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800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9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8024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29163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421164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45"/>
          <p:cNvSpPr/>
          <p:nvPr/>
        </p:nvSpPr>
        <p:spPr>
          <a:xfrm>
            <a:off x="550548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48"/>
          <p:cNvSpPr/>
          <p:nvPr/>
        </p:nvSpPr>
        <p:spPr>
          <a:xfrm>
            <a:off x="29163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4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49"/>
          <p:cNvSpPr/>
          <p:nvPr/>
        </p:nvSpPr>
        <p:spPr>
          <a:xfrm>
            <a:off x="421164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5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550548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6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1"/>
          <p:cNvSpPr/>
          <p:nvPr/>
        </p:nvSpPr>
        <p:spPr>
          <a:xfrm>
            <a:off x="68007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7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52"/>
          <p:cNvSpPr/>
          <p:nvPr/>
        </p:nvSpPr>
        <p:spPr>
          <a:xfrm>
            <a:off x="6800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8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53"/>
          <p:cNvSpPr/>
          <p:nvPr/>
        </p:nvSpPr>
        <p:spPr>
          <a:xfrm>
            <a:off x="802476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9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54"/>
          <p:cNvSpPr/>
          <p:nvPr/>
        </p:nvSpPr>
        <p:spPr>
          <a:xfrm>
            <a:off x="8024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29163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56"/>
          <p:cNvSpPr/>
          <p:nvPr/>
        </p:nvSpPr>
        <p:spPr>
          <a:xfrm>
            <a:off x="421164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57"/>
          <p:cNvSpPr/>
          <p:nvPr/>
        </p:nvSpPr>
        <p:spPr>
          <a:xfrm>
            <a:off x="550548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8"/>
          <p:cNvSpPr/>
          <p:nvPr/>
        </p:nvSpPr>
        <p:spPr>
          <a:xfrm>
            <a:off x="6800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59"/>
          <p:cNvSpPr/>
          <p:nvPr/>
        </p:nvSpPr>
        <p:spPr>
          <a:xfrm>
            <a:off x="8024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не регулярном питании выделяется желудочный сок с повышенной кислотностью, что приводит к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сточник белка рекомендуется употреблять для профилактики инсульта и других сердечнососудистых заболевани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зовите элементы здорового образа жизн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двигательный режим, закаливание, личная и общественная гигие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рациональное питание, гигиена труда и отдыха, гармонизация психоэмоциональных взаимоотношений в коллекти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се перечислен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62064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точная норма шагов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 день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1403280" y="1916280"/>
            <a:ext cx="5977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332000" y="2207520"/>
            <a:ext cx="63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простое и самое эффективное упражнение от которого все органы и ткани организма  лучше снабжаются кислородом и улучшается кровообращение?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должить поговорк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здоровом теле, здоровый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пражнение развивающая силу ру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ля остановки носовог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ровотечения нужн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кинуть голову вверх и зажать но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клонить голову вперед и прижать ноздр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ложить холод к переносиц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рвые признаки инсульт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зов скорой помощ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ционарный теле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лай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тив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ТС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га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диный номер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7068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71928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Т русский полковод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етстве был слабым ребенком, но прекрасно себя закалил. Сначала он парился в бане, а затем выливал на себя 10 ведер холодной воды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6494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46" h="21600">
                <a:moveTo>
                  <a:pt x="26424" y="10800"/>
                </a:moveTo>
                <a:lnTo>
                  <a:pt x="36929" y="3794"/>
                </a:lnTo>
                <a:lnTo>
                  <a:pt x="36929" y="17806"/>
                </a:lnTo>
                <a:close/>
              </a:path>
              <a:path fill="darken" w="59846" h="21600">
                <a:moveTo>
                  <a:pt x="22916" y="3794"/>
                </a:moveTo>
                <a:lnTo>
                  <a:pt x="24579" y="3794"/>
                </a:lnTo>
                <a:lnTo>
                  <a:pt x="24579" y="17806"/>
                </a:lnTo>
                <a:lnTo>
                  <a:pt x="229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 сильном ожоге появившиеся пузыри на коже следует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оло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мазать масл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ожить стерильную повязку и обратиться к врач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течение 3 часов пострадавшему окажут помощь, то можно избежать таких серьезных последствий, как паралич и даже смерть. О каком диагнозе идет речь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считаете сколько кусочков сахара в одном стакане кока-кола 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4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7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12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4">
            <a:hlinkClick r:id="" action="ppaction://hlinkshowjump?jump=firstslide"/>
          </p:cNvPr>
          <p:cNvSpPr/>
          <p:nvPr/>
        </p:nvSpPr>
        <p:spPr>
          <a:xfrm>
            <a:off x="3708360" y="5013360"/>
            <a:ext cx="1800360" cy="720720"/>
          </a:xfrm>
          <a:custGeom>
            <a:avLst/>
            <a:gdLst>
              <a:gd name="textAreaLeft" fmla="*/ 46440 w 1800360"/>
              <a:gd name="textAreaRight" fmla="*/ 1753920 w 18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41" h="21600">
                <a:moveTo>
                  <a:pt x="0" y="0"/>
                </a:moveTo>
                <a:lnTo>
                  <a:pt x="53941" y="0"/>
                </a:lnTo>
                <a:lnTo>
                  <a:pt x="53941" y="21600"/>
                </a:lnTo>
                <a:lnTo>
                  <a:pt x="0" y="21600"/>
                </a:lnTo>
                <a:close/>
              </a:path>
              <a:path fill="lightenLess" w="53941" h="21600">
                <a:moveTo>
                  <a:pt x="0" y="0"/>
                </a:moveTo>
                <a:lnTo>
                  <a:pt x="53941" y="0"/>
                </a:lnTo>
                <a:lnTo>
                  <a:pt x="52541" y="1400"/>
                </a:lnTo>
                <a:lnTo>
                  <a:pt x="1400" y="1400"/>
                </a:lnTo>
                <a:close/>
              </a:path>
              <a:path fill="darken" w="53941" h="21600">
                <a:moveTo>
                  <a:pt x="53941" y="0"/>
                </a:moveTo>
                <a:lnTo>
                  <a:pt x="53941" y="21600"/>
                </a:lnTo>
                <a:lnTo>
                  <a:pt x="52541" y="20200"/>
                </a:lnTo>
                <a:lnTo>
                  <a:pt x="52541" y="1400"/>
                </a:lnTo>
                <a:close/>
              </a:path>
              <a:path fill="darkenLess" w="53941" h="21600">
                <a:moveTo>
                  <a:pt x="53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1" y="20200"/>
                </a:lnTo>
                <a:close/>
              </a:path>
              <a:path fill="lighten" w="53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1" h="21600">
                <a:moveTo>
                  <a:pt x="23471" y="10800"/>
                </a:moveTo>
                <a:lnTo>
                  <a:pt x="33977" y="3794"/>
                </a:lnTo>
                <a:lnTo>
                  <a:pt x="33977" y="17806"/>
                </a:lnTo>
                <a:close/>
              </a:path>
              <a:path fill="darken" w="53941" h="21600">
                <a:moveTo>
                  <a:pt x="19964" y="3794"/>
                </a:moveTo>
                <a:lnTo>
                  <a:pt x="21626" y="3794"/>
                </a:lnTo>
                <a:lnTo>
                  <a:pt x="21626" y="17806"/>
                </a:lnTo>
                <a:lnTo>
                  <a:pt x="1996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сколько лет сокращает свою жизнь человек, употребляющий алкогол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На 3-6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На 10-20 ле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На 30-50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та вредная привычка способствует необратимым нарушениям работы головного мозга и разрушению его клет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ная и копченая пища вредят работе сердца и сосудов, потому что в них содержатся канцероге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 какая вредная привычка способствует увеличению канцерогенов в организ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718920"/>
            <a:ext cx="719784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грозит курение молодому растущему организму?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то такое гиподинамия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м она опасна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максимальное время работы за компьютером в день для подрост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4 лет, 15 лет, 16 ле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ЭТОТ день отмечается Всемирный день здоровья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колько часов в сутки должен спать человек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зрослы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дросток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бенок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тот овощ на 95% состоит из воды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уточная норам овощей и фруктов в граммах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19162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т продукт присутствует в нашем рационе  каждый день. Одно из названий этого продукта по-французски означает «палка». Другое образовано от польского bulla — круглая печать Папы Римского для особо секретных документов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8:40:23Z</dcterms:created>
  <dc:creator>No name</dc:creator>
  <dc:description/>
  <dc:language>en-US</dc:language>
  <cp:lastModifiedBy>Черемицына Юлия Игоревна</cp:lastModifiedBy>
  <cp:lastPrinted>2017-09-20T07:44:22Z</cp:lastPrinted>
  <dcterms:modified xsi:type="dcterms:W3CDTF">2017-09-20T07:44:49Z</dcterms:modified>
  <cp:revision>58</cp:revision>
  <dc:subject/>
  <dc:title>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